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CD31-8D44-484C-9C26-EFB9CB2CB7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9143-27A1-433E-B351-4B20B42EF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CF90-1327-4BE2-A1AB-EF51987CF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78D3-3BBD-43B1-BF8B-D0D3D261F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AF52-5838-4EB4-AAFF-03FDCD754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16E6-D758-4F24-B3C4-875221A53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FEC9-5874-4C84-AE2E-210831F13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8CFC-BB02-4257-B992-CEB80FF0C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0070-4F1A-42F5-9CAE-5628CDE0F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599A-29A4-44CD-AAD3-B90BB0677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B7BE-6E8A-41E7-90CD-891981B9B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CB47-8D3D-4F49-B78D-8EF25FCB5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38F6-E44C-4C57-8048-8E5D88266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AE90-CE0D-4435-8FF1-A244B4F64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8C23-6FCE-41C6-80D6-E3540F2EB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065C-CA50-4A43-B0E5-D41E379E2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920B-98D2-4C9D-983D-395E1835F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79DA-3AA1-4178-9876-3E283CC0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88B-7539-457C-AA9F-717F9270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E48-EB77-4748-BBF2-B7640724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8A8A-06E7-4C1E-AC10-6A3E3BB7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A4D-750C-4559-A96A-68A56A44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241-FA7C-4895-8B42-6771CA2A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8DB-1DE8-4013-9C8A-04CEB8E1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6EC-078C-4418-BE01-2D2B5534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3CB-9783-41CD-A6BD-2D282727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B5B-0FB7-484F-923C-2A4542EC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14FB-EF98-45E2-8116-2D83F589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4D6-2A34-4641-A69E-EF8E3AB6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17DF-48FA-45D5-9EB3-2EB3E63A2F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63B4-B1F9-4D1A-8536-978D2A708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Book Antiqua"/>
              </a:rPr>
              <a:t>Ancient Rome and the Roman Republ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79F3-CE06-4621-86B8-E6D879095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Book Antiqua"/>
              </a:rPr>
              <a:t>The Punic W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76320" y="762120"/>
            <a:ext cx="4724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Carth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d an empire throughout the Mediterran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ome fought Carthage in three wars from 264 B.C. to 146 B.C.  (118 years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y the Third Punic War, Rome had completely destroyed Carthage and gained all of Carthage’s terr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929120" y="685800"/>
            <a:ext cx="4186440" cy="609588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902C-2A1A-4D6D-9827-5FEB53938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Patricians vs. Plebei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5334120" y="1219320"/>
            <a:ext cx="3733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Plebeia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have no say in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ventually get to elect their own officials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tribun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n 494 B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 84 years, (421-337 B.C.) plebeians fought to have a role in each part of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28600" y="1390680"/>
            <a:ext cx="4859280" cy="440064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AC15-3CF2-49B4-9203-71F76937B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Book Antiqua"/>
              </a:rPr>
              <a:t>Social Stru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533520" y="1219320"/>
            <a:ext cx="7696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A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m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as the head of the household and his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wif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children did not question his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centuries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wom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ceived more rights. These i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wning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nning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533520" y="457200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ildren were taught to learn to read and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lthy had private tutors for their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FFDB-630A-420E-8E76-5A22C98CF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Book Antiqua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76320" y="990720"/>
            <a:ext cx="662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omans wer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polytheist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they believed in many gods and godd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Many of the gods were adapted from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Gree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0" y="2895480"/>
          <a:ext cx="6095880" cy="1752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Greek G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Roman G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Zeus-ruler of all g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Jupiter-ruler of all g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era-wife of Zeus, protected marri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Juno-wife of Jupiter, protected marri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oseidon-god of the 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eptune-god of the 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96" name="TextBox 4"/>
          <p:cNvSpPr/>
          <p:nvPr/>
        </p:nvSpPr>
        <p:spPr>
          <a:xfrm>
            <a:off x="76320" y="487692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man calendar is full of feasts and celebrations to honor the gods and godd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Temp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worship to ask for divine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385C-7639-487E-90EB-AD5DACD30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Book Antiqua"/>
              </a:rPr>
              <a:t>Poli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228600" y="1219320"/>
            <a:ext cx="8534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e grows strong and begins conquering the rest of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alibri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y  270 B.C., Rome controls most of the Italian penins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litary is made up of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alibri"/>
              </a:rPr>
              <a:t>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e conquered justly- allowing those conquered to keep their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alibri"/>
              </a:rPr>
              <a:t>culture, customs, and govern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s long as they supplied soldiers, paid taxes, and acknowledge Roman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136F-EA9C-4675-A243-E7DF1790E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Book Antiqua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80880" y="762120"/>
            <a:ext cx="7772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Conques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rought much wealth to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Wealthy families bought huge estates called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latifundi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omans forced the people they conquered to work as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slav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 the latifu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lave labor hurt the small farmers because it cost them more to produce food, and the price was driven down by the immense quantities coming into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Farmers fell into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deb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old their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moved to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king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gap between rich and poor widens=riots and cha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76CD-2286-4176-BD40-96560B86F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Book Antiqua"/>
              </a:rPr>
              <a:t>The Gracchus Broth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4876920" y="990720"/>
            <a:ext cx="4267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rothers worked to get the state to distribute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the poor fa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lso worked to get the state to buy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gr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feed th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ate felt they were a threat to its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p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hired thugs to kill the brothers and their fol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448452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304920" y="1386000"/>
            <a:ext cx="43434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Tiberius and Gaius Gracchus were patricians who were elected trib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9427-8BBD-4E39-9493-DB2642480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Book Antiqua"/>
              </a:rPr>
              <a:t>Republic to Emp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609480" y="1542960"/>
            <a:ext cx="7467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 u="sng">
                <a:solidFill>
                  <a:srgbClr val="943634"/>
                </a:solidFill>
                <a:uFillTx/>
                <a:latin typeface="Calibri"/>
              </a:rPr>
              <a:t>Civil war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eak out to decide who should hold power. The senate wanted to keep the </a:t>
            </a:r>
            <a:r>
              <a:rPr b="0" lang="en-US" sz="2800" spc="-1" strike="noStrike" u="sng">
                <a:solidFill>
                  <a:srgbClr val="943634"/>
                </a:solidFill>
                <a:uFillTx/>
                <a:latin typeface="Calibri"/>
              </a:rPr>
              <a:t>status qu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political leaders wanted to weaken the senate and enact </a:t>
            </a:r>
            <a:r>
              <a:rPr b="0" lang="en-US" sz="2800" spc="-1" strike="noStrike" u="sng">
                <a:solidFill>
                  <a:srgbClr val="943634"/>
                </a:solidFill>
                <a:uFillTx/>
                <a:latin typeface="Calibri"/>
              </a:rPr>
              <a:t>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lave uprisings throughout the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Armies became loyal to their </a:t>
            </a:r>
            <a:r>
              <a:rPr b="0" lang="en-US" sz="2800" spc="-1" strike="noStrike" u="sng">
                <a:solidFill>
                  <a:srgbClr val="943634"/>
                </a:solidFill>
                <a:uFillTx/>
                <a:latin typeface="Calibri"/>
              </a:rPr>
              <a:t>commander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they gave them benefits such as captured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DDE4-03B3-49E5-964D-B823A52A6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ckb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busters Government &amp; L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teachers-direct.co.uk/resources/quiz-busters/quiz-busters-game.aspx?game_id=4729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C941-0ADA-4BAA-A206-A1FAA9B47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ssay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did the Athenians prevent one person from gaining too much power? Explain this in relation to the system of checks and balances developed during the Democratic Age in Athe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arly Civi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838080" y="1219320"/>
            <a:ext cx="7620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Italy was originally occupied by many different groups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Two main groups w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Greek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olonists and the Etrus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The Etruscans ruled much of central Italy and Rome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Ancestors of the Romans,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Lati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settled in the area that is now Rome around 800 B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97CE-DBBA-409D-951A-1EDC8B7B4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-23"/>
          <p:cNvPicPr/>
          <p:nvPr/>
        </p:nvPicPr>
        <p:blipFill>
          <a:blip r:embed="rId1"/>
          <a:stretch/>
        </p:blipFill>
        <p:spPr>
          <a:xfrm>
            <a:off x="444600" y="1905120"/>
            <a:ext cx="8318520" cy="21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Roman Citizenship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alibri"/>
              </a:rPr>
              <a:t>Citizens</a:t>
            </a: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 were the people who could participate in govern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Citizens had the right to vote and hold public off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Duties of citizenship inclu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125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Paying ta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125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Serving in the army when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Rome’s emperors gave citizenship to groups that the Romans had conquer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125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This act helped keep people loyal to Ro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Main Idea 2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 Roman advancements in engineering, architecture, art, and philosophy helped shape later civilizations.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8077320" cy="3733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Roads lasted for centuries, and bridges spanned raging riv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alibri"/>
              </a:rPr>
              <a:t>Aqueducts</a:t>
            </a: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, human-made channels that carried water from distant mountain ranges into Rome or other c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Architecture and 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Romans borrowed from Greek ideas, such as using columns and open space, but made their buildings larger and grand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Roman art borrowed ideas from the Greeks, such as making their art look realisti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Philoso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Wanted to show the world as it really w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Wanted their ideas to improve people’s l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-31"/>
          <p:cNvPicPr/>
          <p:nvPr/>
        </p:nvPicPr>
        <p:blipFill>
          <a:blip r:embed="rId1"/>
          <a:stretch/>
        </p:blipFill>
        <p:spPr>
          <a:xfrm>
            <a:off x="2362320" y="1219320"/>
            <a:ext cx="436860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Legend of the Founding of R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5257800" y="1371600"/>
            <a:ext cx="3886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Legend has it that twin brothers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omulu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emu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founded th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According to the tale, the twins’ mother was a Latin woman and their father was the war go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This led Romans to believe that they had a divine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95400" y="1916280"/>
            <a:ext cx="5162400" cy="326520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0625-31BD-4499-B0D0-FF8A1360F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Book Antiqua"/>
              </a:rPr>
              <a:t>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380880" y="961920"/>
            <a:ext cx="4114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cated on the Italian peninsula, in the center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Mediterranea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Alp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re in the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The Apennine Mts. are o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easter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broad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fertile plain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the north and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4098960" cy="578664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2785-3125-4935-8685-AABF2FDCC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Rome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0" y="1447920"/>
            <a:ext cx="34290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ome is loc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On the banks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Tibe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On and around seven h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4141" t="587" r="0" b="0"/>
          <a:stretch/>
        </p:blipFill>
        <p:spPr>
          <a:xfrm>
            <a:off x="3409920" y="1185840"/>
            <a:ext cx="5734080" cy="567216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367E-BDEA-4022-920B-0CD2F7629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52280" y="4038480"/>
            <a:ext cx="3200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would Rome’s geographic location be an advant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Poli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762120" y="2478240"/>
            <a:ext cx="723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omans drove out their Etruscan ruler and established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did not want one person to have all th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72560" y="1600200"/>
            <a:ext cx="54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509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B.C. Rome Republic is F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B817-C89B-4AD7-A8D4-F547656C6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tructure of the Republ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52280" y="762120"/>
            <a:ext cx="4114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Patricia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= landholding uppe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Plebeia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= farmers, merchants, artisans, tr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nate= governing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ls= two patr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Dictato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= assigned to be in charge in the event of a war for six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Diagram 3" descr=""/>
          <p:cNvPicPr/>
          <p:nvPr/>
        </p:nvPicPr>
        <p:blipFill>
          <a:blip r:embed="rId1"/>
          <a:stretch/>
        </p:blipFill>
        <p:spPr>
          <a:xfrm>
            <a:off x="3041640" y="1427040"/>
            <a:ext cx="6108840" cy="4102200"/>
          </a:xfrm>
          <a:prstGeom prst="rect">
            <a:avLst/>
          </a:prstGeom>
          <a:ln w="0">
            <a:noFill/>
          </a:ln>
        </p:spPr>
      </p:pic>
      <p:sp>
        <p:nvSpPr>
          <p:cNvPr id="73" name="Straight Connector 7"/>
          <p:cNvSpPr/>
          <p:nvPr/>
        </p:nvSpPr>
        <p:spPr>
          <a:xfrm>
            <a:off x="3733920" y="3124080"/>
            <a:ext cx="480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0959-62A6-4488-BB73-8CA3AF1D6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man Bin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29600" cy="4648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Patric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Pleb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Cons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Assemb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Trib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V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Checks &amp; Bala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leg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republ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dict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Crucifix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prae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Anarc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Pax Rom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Cleisthe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Sen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956B-C78C-4E95-9CF3-CE3E4DD8C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ruscan R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ub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ebeian Reb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Equality for Plebe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elve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Period of Expa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Period of Expa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Period of Expa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Period of Expa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nic W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of the Repub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e becomes an Empi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8E85-D339-4227-AF2A-0215215C9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3:42:28Z</dcterms:created>
  <dc:creator>Hil</dc:creator>
  <dc:description/>
  <dc:language>en-US</dc:language>
  <cp:lastModifiedBy>IT User</cp:lastModifiedBy>
  <cp:lastPrinted>2010-11-25T08:51:11Z</cp:lastPrinted>
  <dcterms:modified xsi:type="dcterms:W3CDTF">2010-12-08T12:06:44Z</dcterms:modified>
  <cp:revision>106</cp:revision>
  <dc:subject/>
  <dc:title>Chapter 5 Ancient Rome and the Rise of Christianity</dc:title>
</cp:coreProperties>
</file>